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5F2-32F0-48EA-94FA-DF4BB1C4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D09-607E-424F-ACF8-589E81B7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CC3-76A5-45EF-A79F-9981534C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ACB-E4D6-404B-BC71-02FF9ABD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22B-790B-47DA-827C-2D51E4F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640-5FB3-46C9-9944-E023EC3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1E8-D258-4378-ABD2-63FD4DC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F2C-6894-4206-8ADA-88204EE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C5C-66AF-4D9D-A9DB-713F3AA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3B9-0691-4E67-961B-E65EA1B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977-D968-4426-A452-FECDA1D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69E-52CD-46E9-8454-49B28B6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7D7-B056-4B80-948F-E98D59F0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esignerstencils.com/Merchant2/merchant.mvc?Screen=PROD&amp;Store_Code=DS&amp;Product_Code=685&amp;Category_Code=Bird" TargetMode="External"/><Relationship Id="rId2" Type="http://schemas.openxmlformats.org/officeDocument/2006/relationships/hyperlink" Target="http://www.1001christianclipart.com/powerpoint-backgrounds-2/blue-sky" TargetMode="External"/><Relationship Id="rId3" Type="http://schemas.openxmlformats.org/officeDocument/2006/relationships/hyperlink" Target="http://www.stereoscopy.com/world/index.html" TargetMode="External"/><Relationship Id="rId4" Type="http://schemas.openxmlformats.org/officeDocument/2006/relationships/hyperlink" Target="http://www.wcosf.org/articles/bluebird_article.shtml" TargetMode="External"/><Relationship Id="rId5" Type="http://schemas.openxmlformats.org/officeDocument/2006/relationships/hyperlink" Target="http://www.flickriver.com/photos/jkissnhug/3727011814/" TargetMode="External"/><Relationship Id="rId6" Type="http://schemas.openxmlformats.org/officeDocument/2006/relationships/hyperlink" Target="http://karkanirka.wordpress.com/2010/06/04/tamil_wordlist_17/" TargetMode="External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6ebb"/>
                </a:solidFill>
                <a:latin typeface="Arial"/>
              </a:rPr>
              <a:t>The life of Sammy the swa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d810"/>
                </a:solidFill>
                <a:latin typeface="Arial"/>
              </a:rPr>
              <a:t>Written by Corey and Kel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5300640"/>
            <a:ext cx="1584360" cy="792360"/>
          </a:xfrm>
          <a:prstGeom prst="wedgeRoundRectCallout">
            <a:avLst>
              <a:gd name="adj1" fmla="val -91884"/>
              <a:gd name="adj2" fmla="val 89879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ac02"/>
                </a:solidFill>
                <a:latin typeface="Comic Sans MS"/>
              </a:rPr>
              <a:t>Hi I'm Sammy the swal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49360"/>
            <a:ext cx="4680000" cy="143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ember to spot the mini Sammy the swal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each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2852640"/>
            <a:ext cx="2160720" cy="3311640"/>
          </a:xfrm>
          <a:prstGeom prst="wedgeEllipseCallout">
            <a:avLst>
              <a:gd name="adj1" fmla="val 205986"/>
              <a:gd name="adj2" fmla="val -66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w, I’m tired. I’ve been flying for miles and miles so I’m going to rest in the s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51280" y="3141720"/>
            <a:ext cx="2592360" cy="1079280"/>
          </a:xfrm>
          <a:prstGeom prst="wedgeRectCallout">
            <a:avLst>
              <a:gd name="adj1" fmla="val -46263"/>
              <a:gd name="adj2" fmla="val 78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I hope you know what my life is like now b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48000" y="1052640"/>
            <a:ext cx="115092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32720" y="4724280"/>
            <a:ext cx="165564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86328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187280" y="5300640"/>
            <a:ext cx="1908360" cy="11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 rot="21477600">
            <a:off x="6947640" y="1412280"/>
            <a:ext cx="115272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3471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1,2,3,9&amp;11 Sammy the Sw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signerstencils.com/Merchant2/merchant.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060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ge 2&amp;11 blue sk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001christianclipart.com/.../blue-sky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565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ge 3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ereoscopy.com/world/index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068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cosf.org/articles/bluebird_article.s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35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lickriver.com/photos/jkissnhug/3727011814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436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arkanirka.wordpress.com/.../tamil_wordlist_17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005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g.lib.umn.edu/.../2009/09/the_bird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644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s.wikimedia.org/wiki/File:Swallows_nest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941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blogs.com/.../07/why_do_stars_twinkle.ph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373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lickr.com/photos/nikonino/4938319703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16360" y="981000"/>
            <a:ext cx="316836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16720" y="1197000"/>
            <a:ext cx="1584360" cy="3240000"/>
          </a:xfrm>
          <a:prstGeom prst="wedgeEllipseCallout">
            <a:avLst>
              <a:gd name="adj1" fmla="val -45689"/>
              <a:gd name="adj2" fmla="val -4680"/>
            </a:avLst>
          </a:prstGeom>
          <a:gradFill rotWithShape="0">
            <a:gsLst>
              <a:gs pos="0">
                <a:srgbClr val="000000"/>
              </a:gs>
              <a:gs pos="50000">
                <a:srgbClr val="21cf3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c02"/>
                </a:solidFill>
                <a:latin typeface="Comic Sans MS"/>
              </a:rPr>
              <a:t>Hi my name is Sammy the swallow I am going to tell you about my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156000" y="213372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56360" y="2492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771640" y="4768920"/>
            <a:ext cx="3095640" cy="1539720"/>
          </a:xfrm>
          <a:prstGeom prst="wedgeRoundRectCallout">
            <a:avLst>
              <a:gd name="adj1" fmla="val -34513"/>
              <a:gd name="adj2" fmla="val 64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 live pretty much everywhere!!!!! I live in NZ, Australia, Asia, Europe, Northern America and North Africa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284720" y="386028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96000" y="501300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96000" y="5660640"/>
            <a:ext cx="237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92360" y="2492280"/>
            <a:ext cx="151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06692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08720" y="2997360"/>
            <a:ext cx="792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56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168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000"/>
            </a:gs>
            <a:gs pos="100000">
              <a:srgbClr val="1890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27640" y="1341360"/>
            <a:ext cx="2374920" cy="503280"/>
          </a:xfrm>
          <a:prstGeom prst="wedgeRoundRectCallout">
            <a:avLst>
              <a:gd name="adj1" fmla="val -18046"/>
              <a:gd name="adj2" fmla="val 427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e as an eg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066920" y="1773360"/>
            <a:ext cx="21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48360" y="549360"/>
            <a:ext cx="3095640" cy="792000"/>
          </a:xfrm>
          <a:prstGeom prst="wedgeRoundRectCallout">
            <a:avLst>
              <a:gd name="adj1" fmla="val -70666"/>
              <a:gd name="adj2" fmla="val 49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me as a baby. I am called a fledg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11640" y="189000"/>
            <a:ext cx="1873080" cy="1655640"/>
          </a:xfrm>
          <a:prstGeom prst="wedgeRoundRectCallout">
            <a:avLst>
              <a:gd name="adj1" fmla="val -43726"/>
              <a:gd name="adj2" fmla="val 70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’m too young to go flying so I have to stay in the n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000" y="836640"/>
            <a:ext cx="2665440" cy="1081080"/>
          </a:xfrm>
          <a:prstGeom prst="wedgeRectCallout">
            <a:avLst>
              <a:gd name="adj1" fmla="val -80254"/>
              <a:gd name="adj2" fmla="val 32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I have straight feathers and I’m fully grow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7280" y="260280"/>
            <a:ext cx="4897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me I’m in a flock with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876720" y="549360"/>
            <a:ext cx="358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56000" y="2852640"/>
            <a:ext cx="2376720" cy="1079640"/>
          </a:xfrm>
          <a:prstGeom prst="wedgeRoundRectCallout">
            <a:avLst>
              <a:gd name="adj1" fmla="val -25685"/>
              <a:gd name="adj2" fmla="val 133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’m traveling to the sun to get w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1224000" cy="76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236000" y="3429000"/>
            <a:ext cx="1152360" cy="71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435640" y="476280"/>
            <a:ext cx="1079640" cy="66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156360" y="5157720"/>
            <a:ext cx="2124000" cy="1319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50920" y="0"/>
            <a:ext cx="1871640" cy="1162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5373720"/>
            <a:ext cx="1873080" cy="116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7667640" y="1844640"/>
            <a:ext cx="504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3:36:10Z</dcterms:created>
  <dc:creator>rm1103</dc:creator>
  <dc:description/>
  <dc:language>en-US</dc:language>
  <cp:lastModifiedBy>rm1102</cp:lastModifiedBy>
  <dcterms:modified xsi:type="dcterms:W3CDTF">2010-09-22T00:33:08Z</dcterms:modified>
  <cp:revision>17</cp:revision>
  <dc:subject/>
  <dc:title>The life of Sammy the swallow</dc:title>
</cp:coreProperties>
</file>